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08503-D295-45B7-BB04-6DBE645ED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055C1-BF12-4DE6-B6A7-61F3FAF2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22BC8-E0C8-4693-A3D3-4CCD7F82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638-C5F7-40F9-99C6-805AE2C6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E9E-D92F-4BE0-B62D-7182CEC4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632FC-C4A2-44EF-85E2-F291A73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DB047-9E86-4021-80B7-38D4254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1247E-DA7C-4CEF-BECD-76A1C700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61016-9A42-4595-A12A-C62BF8B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648DB-763C-4382-9120-84E204F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4A204-0721-4AF4-867E-E04FA6E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BBCBE-EE65-4363-9B9A-8052655F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DEDFC-9EED-4C3B-AB37-BCB065A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D4081-C05B-4837-9809-43EC7B5B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07FFF-DDE7-4249-B360-36A40DBA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127-C6A9-4735-BE26-F44132AB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421FE-65D3-4649-9189-021DD48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E4EC5-8D59-4AC5-8156-3BBD92C2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92BA-8740-4F5E-96D3-06FCEBA8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0E2AB-2BC6-4940-81D1-6600538B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839B9-2BAA-49DC-9F06-A48CB8BF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F120-6517-41C8-A4F7-9535962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B6409-BF55-42E6-8865-99E7948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BA8F2-06BE-45C2-96DA-A61B544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10C0A-FE90-49FC-BFC4-BFB95B9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6509D-E7CF-450A-ADE8-5E8637F1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14E-A3D2-445C-AE15-ADA35E5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283EC-DB48-4D53-A95C-217B021E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D3E50-6C0F-48EC-BBA6-AF471988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16E9-2514-437E-8D1C-4C8B514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CE327-DC41-4609-A6C2-5951CCA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71AE4-6A07-48A3-8304-5A09B0AB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863E-0F70-4805-8A00-2A24405D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A898-A713-4B00-B6E7-BD7D8A5C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FC3CE-F2EF-4838-ABEC-2FC73CC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40077-B354-4E1A-B454-85085147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A1C74-9F06-4DDA-9A1E-E988AD9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DEA-3F92-4C6C-BED3-A990BAC9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6ED2-A637-4371-A125-D68FED0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2379-EE47-463C-A979-3ABEE1E9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7E48E-4DA0-48AA-8BCB-174AED09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69621-211C-43B2-97F8-72F0C6F4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C9740-D7BB-4C2D-9F96-38D208F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03F0-EE23-4FF4-9551-E1C30525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28696-DE42-4577-AB95-4A43127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A34FC-5010-4367-B7C7-19D1D65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7CFCA-2A99-41B2-B448-38E36459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363F2-5D04-4F9B-BD59-DDE5B9E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E3D-B762-4A08-8A8C-4631F87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7CC89-1F62-45F3-94E9-E7D9DBF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7D4F-EE07-4262-90BA-CDEF6D8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2026-8F73-4567-B4FF-E2299891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29347-634E-4A35-9143-4170DE9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035D4-29F0-46E1-A3E4-FD3A41C2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216AA-1B05-49B2-B1E6-B0BFA8C6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50AA7-E407-4A2C-A19E-62A4128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0451A-9D93-4089-AECD-3B1F0DE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920A1-3BBB-4FDE-ABE6-37A0FF88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A21F8-68E4-4AD9-A224-9FD8672D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CFBF-F50C-456B-8B36-ADDAC832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80CE8-E4A0-47A6-9EF0-AA9480D9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CE285-0B1A-42D9-A150-24F96D7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5D5C8-CAE8-4639-BC4C-6E89448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C67AC-65A5-4F38-82BE-66BAB3A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ED96F-760E-496B-94FA-9ACF29B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812D2-C0D5-463D-A13A-070B91C9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F7FF3-42E5-4D75-9B5E-BB8BB6D7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30A99-7A1B-45BF-9E6C-73C9CD5F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83A15-2728-461A-BC18-462745AE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39178-E2A7-4B46-82F2-574C320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D384-D48F-4A03-BD28-E981D4D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2177B-9882-48C4-94EE-EB2AC00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4DD49-0905-4E83-9F49-C950A80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40186-221A-4A4A-9019-495432E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44F9A-1953-4D39-A0AD-5D8242B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B23F7-6FC7-462B-85B5-9E883CC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76613-9EF7-4D3C-91A3-A5ECE53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02E15-8A91-41B2-9EA7-989A888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93036-9BBE-40DD-BA06-99F660F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583B2-7893-4CC5-8F17-88B2F06B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51043-3FDB-40E3-A0B3-0A756D74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59FD-054F-41EA-858C-645E796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1113B-3E96-4AEC-BE2C-787C23EE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6FB10-E93A-447C-989C-24984132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F6675-7874-4E3E-A1A1-BEA56A2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14A3D-ACE9-47C1-B09E-D7B8CE8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EF16B-8A7E-4F99-93A1-B7D4C0C8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1034A-C5FF-40D8-A052-FB3296F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7D9F0-FD26-43F2-BF66-A757439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1CB0C-F587-44D9-91B0-2FB209FD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50293-E48D-4CD8-8934-7562863D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27EEF-08B5-4E71-A2DF-687C971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A404-2361-4318-96AC-70622E68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2F815-4E47-48DA-B7DD-FC7A59BA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CFEA8-B5CF-4FFC-BD0C-1F0E9AA8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203EF-42DE-47C7-B92C-8FC3849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B7C43-0C25-4075-B1E4-83A38B6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9A1D4-0A66-403C-B197-5AF1348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0EFD9-07F6-4D85-ADAE-E2C4C63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61D7B-9928-4F1B-968A-E23CABF4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5E4DD-E647-4D1C-ADD9-1BFE480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AFBE7-E955-4781-BA4D-D2497BBD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7DCEA-C2AA-4359-A690-5E11437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824B-1841-4326-9E92-6CB4775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554F2-AC7D-4B6A-93C4-48986DDD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BD519-9307-442B-8E44-A570993B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8FC84-2F59-4938-B7F4-0FC166D8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08996-C152-4A4B-84B7-538D24BD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B1ED1-0327-4AA6-98FD-1F0A084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2E53A-2620-42CF-B1E1-197ED7F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C2E87-9EFC-447B-AC37-9557B48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DA784-F66D-4D03-9B8C-8CFDAED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77D64-E386-4D36-9B57-50B0A8F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55CBC-AEF1-4C1A-B04C-AAB1DA1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AD7-D047-4DCB-85A6-39903D32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D48C-7EE3-4630-8CE3-FDE0D14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C366B-5E68-41DE-8158-7655F32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0C7E1-AEA2-48B1-8980-24D3280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43E53-C465-43D8-98D3-E2262C6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ACADE-531E-422B-AE10-DA0332B8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31C23-A635-48CD-8C52-61D02C80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ACF-D24C-4A42-9D80-66E9DA2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D0CC-0627-4BF2-AB1A-DAC92FF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309B-C303-457B-8CE5-58560BD4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A497-F068-4F90-9462-39D48232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479F-13C9-4D21-9629-64AF672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4666-4DE5-4128-993F-E3F410D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326A-1700-44CD-8760-D338F25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1969-465A-4B91-8C9F-CACC49CC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117D-425F-46E1-8992-891226C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4DA-BCAB-431B-8A30-7A2C9654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5679-3D9B-424E-9ECC-7AC3D3F3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9F8C-668F-4DA4-B6E6-232B545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9C98-B83D-4C84-9B79-B2A2F22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452E-AA4E-434B-A8CF-776CAFF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5776-E570-4ED8-8891-1F2BD59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161B-C8BD-464B-A177-A0C5F7C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D003-5593-4268-8DE2-17E0FE5D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505F-3485-4D2C-86DE-F53A13E7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3871-5E98-4B32-9003-8483951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4CCE-6C76-4A84-8847-42A0502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C10-8359-4106-89DF-EBF1132B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A834-24BC-46DE-9C68-8580E088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6E57-78B4-43E2-BDB3-F9716BC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4912-8E60-4FA2-BB04-D34D012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D5F2-6952-4DC4-A81E-9BFE9D7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049E-89D1-4E14-9329-06550F71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1C30-514C-4D36-A03D-112ED0A1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B08E-8BC6-46FE-89AE-8D9F5F25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9991-5B5E-476D-85A3-9A65B65C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EED1-8E83-49C6-A679-E89B31E6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C363-B898-44BE-8419-530510A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806-AB0B-4362-9065-B060EE8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DC41-69D8-44A4-AB65-2C0E68B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C5CD-C6AB-454C-95E9-56DED0A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DEF8-5E08-4F96-ABB6-B90009D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E69F-65C2-4C59-B7D5-5817746B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349C-8715-47B6-B38F-FFC4317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A96E-D6BE-4669-AFFC-5067110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D9E0-E002-4E79-97F5-860F2EE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F92D-110A-4C63-8950-FA37FAD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CAC4-2957-46F6-83CE-AAC2E8A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B278-EED5-4ACE-90A5-09105950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AA0-EB9F-471A-8A94-C4DC3C73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A811-7962-4916-9462-F9E94C6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2D08-68A2-40E5-BB99-FB2F7925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78F6-D0BC-49AD-B50F-437203A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6229-30E0-4203-AE91-EC626EB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741C0-806F-40C9-8220-9FFBC27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5ACDC-48A0-4B07-9046-A80A8F6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BFCC0-8758-4A52-B170-9CCDAAA4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8B1B-081E-4AC3-B064-AB3E7A9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54D3F-B515-4265-9E2C-C6BFF17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47A2-3A74-48B6-B4BB-9D777B0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796-493F-4FA8-9BBC-C5631C5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6D68-5D67-423E-9A85-12F4113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8AB6-584E-48AF-88DD-DFFBF361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D62D-1008-487A-A857-BAD5AB64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6524-5231-4B69-9B93-4430D4DE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29FB-4752-4D89-A877-B70E933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B74B-8BB3-47DF-B72A-172C75D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0D8C-C138-44B7-8E55-11B60B5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0E9F-7350-4E88-BF59-565CC33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CCFD-6161-4AF3-A9A8-904F092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19997-5331-4C93-A474-A319A14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3D0-F0EC-40FD-93AC-C53B614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5F7B-8CC1-4C00-B507-B19AAD31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ADC3-8F38-427F-9B76-E05AEA5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92B3-2C66-4656-B20F-1F21E3D3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8D0E-E74E-4EDE-9A1C-9DDE4C3A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DC7B-521F-4E90-93BB-9BFB744F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CBD3-332A-4BC7-A1FA-8658F4FF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E5A3D-6DCE-4C69-87ED-72550C62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180B4-0F4E-4C48-9AD4-E547EC5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89D8-6CC1-4102-9D33-D2E5ADAE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496A-58BC-40C1-9998-E0360DD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AC8-F87E-43A3-A08C-3778D80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6731-A8AF-4601-8CDE-2D8A5DF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E5DA5-5B50-4CB8-BD74-0B0540A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DDD7-1C8E-4A3D-9D59-C9E6E502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28B8-7882-4135-8E78-5F8B7F4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458F-45B9-4059-AD50-98D07021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3D24-12A0-480E-AED6-FE140C2D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2BD6-20AB-4B9A-8392-E9B74329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6FE17-F2F6-41AE-B39E-B7B6E6EB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87DC8-A5C4-4FFA-ABC1-A9B1892A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06479-BED1-4AAB-8A5E-960125D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E96E9-2541-4337-8DA3-9042B80D517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B98C4-42FF-416B-A1F9-D95181306C9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83CB3-CD80-49C7-8396-D43A3BDC67B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9C0E9-4174-452B-90AE-AFD30C1960E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D5BD1-B684-4D90-818E-C4ED57881C8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B533E-981F-4D17-9308-F42512FCC5F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BD4A3-E760-4648-9331-055CD4E361C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6C6E-9D4F-4DC1-B9EB-D8ED26A0157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5074B-9658-4FFB-A6A7-F44F23F6A19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A587D-3B9E-4EAD-9BA0-53FAE454155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DF8F4-D48F-4D96-9D25-ACF3D455C50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853DE-0BCD-4D23-97EA-4B9E7880547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8EB8C-08D7-4455-A783-1AFB6C7716B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5FBA0-2E24-46D4-81D7-34D3EAF03F9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E917F-E563-4860-9D5F-418434AB9BE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5647-C9EA-414C-8044-8165DCF2A2D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4FBCA-ED64-4A00-A11F-01E39FD04E9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9194C-3BE5-48E4-9969-92B8BA33BC6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F9ADA-A029-4D14-840F-F7BA4045465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57CC4-9BC1-4DF0-9837-661AC8E25C0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1B016-D795-4679-9097-C553875082A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CE906-7ACD-4E24-9F54-2AF30D2A1BB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D9CC1-D26D-4F1D-8867-CE7320B5CA7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54040-21D1-4AE7-BB79-AFB28DAD13A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79A5C-23A9-4317-BFFF-A23A961DDEF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50625-F4CF-40E1-AF5B-85E07AEDC1B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39C5-42A3-4928-904B-D11D56776CE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5B86A-F241-4F32-87B1-4C2A5C12E4A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284F8-4A93-4DE8-987C-876C3D055A7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53B0C-7F01-4604-85E6-BD88308BF57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95CAD-744A-40A9-82F8-915E2A956F2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AA9DC-5BD6-494A-84BD-B776254CAFF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A6B42-61B8-4107-AF16-971E0C90D4E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69D3F-7C71-4590-9351-197D9E42E8F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4: Representation in Comics: McCloud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 Tak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88" name="Picture 1" descr="mccloud_head.jpeg"/>
          <p:cNvPicPr/>
          <p:nvPr/>
        </p:nvPicPr>
        <p:blipFill>
          <a:blip r:embed="rId1"/>
          <a:stretch/>
        </p:blipFill>
        <p:spPr>
          <a:xfrm>
            <a:off x="304920" y="22082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norules.jpeg"/>
          <p:cNvPicPr/>
          <p:nvPr/>
        </p:nvPicPr>
        <p:blipFill>
          <a:blip r:embed="rId2"/>
          <a:stretch/>
        </p:blipFill>
        <p:spPr>
          <a:xfrm>
            <a:off x="4727520" y="2943360"/>
            <a:ext cx="3738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ypes of Moment Chan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ment-to-Mo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tion-to-A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bject-to-Subjec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cene-to-Sce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spect-to-Aspec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n-Sequitu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1" descr="image007.jpeg"/>
          <p:cNvPicPr/>
          <p:nvPr/>
        </p:nvPicPr>
        <p:blipFill>
          <a:blip r:embed="rId1"/>
          <a:stretch/>
        </p:blipFill>
        <p:spPr>
          <a:xfrm>
            <a:off x="198288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Differences in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presenting Mo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rth American/European comics vs. Japanese - content analysis shows different ratios of moment transi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xperimental comics also break with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tandar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North American ratio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losure differs with each approach, as does the amount of moment transi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focus reader’s attention on particular elements, creating sense of place, position, focu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ilar to other visual media (e.g., film, photography) - panels as designed, not accidental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ven more so in comics perhaps – drawing as a deliberate ac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raming elemen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mera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angl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Lighting (or lack thereof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oseups vs. wide shot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istance and perspectiv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ymmetry and centering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e 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gutter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– presence/absence, shape, colour affect both what is seen and transitions 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ma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268880" y="2133720"/>
            <a:ext cx="4589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iconic, symbolic medium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comics deliberately leave details vague to encourage reader participation in closure – e.g., our ability to see human faces everywhe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7" name="Picture 1" descr="McCloud_self-portrait_7785.gif"/>
          <p:cNvPicPr/>
          <p:nvPr/>
        </p:nvPicPr>
        <p:blipFill>
          <a:blip r:embed="rId1"/>
          <a:stretch/>
        </p:blipFill>
        <p:spPr>
          <a:xfrm>
            <a:off x="312840" y="2133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3" descr="Understanding-Comics_026.jpeg"/>
          <p:cNvPicPr/>
          <p:nvPr/>
        </p:nvPicPr>
        <p:blipFill>
          <a:blip r:embed="rId1"/>
          <a:stretch/>
        </p:blipFill>
        <p:spPr>
          <a:xfrm>
            <a:off x="4981680" y="1001880"/>
            <a:ext cx="3741480" cy="55512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1628398-2682755607_ed2373fc9e_o_super.jpeg"/>
          <p:cNvPicPr/>
          <p:nvPr/>
        </p:nvPicPr>
        <p:blipFill>
          <a:blip r:embed="rId2"/>
          <a:stretch/>
        </p:blipFill>
        <p:spPr>
          <a:xfrm>
            <a:off x="289080" y="722160"/>
            <a:ext cx="46926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mage elemen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Level of detail - photorealism vs. iconography and effects of each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The role of icon in comics - simple comics evoke interesting emotions (e.g., Peanuts, Mutts)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Relation between background and foreground characters - (e.g., iconic characters and realistic background, e.g., Hergé’s Tintin)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Expression (especially facial expression) and body languag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ound as imag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Role of colour – colour as symbol and accent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or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ix visual and literal forms, arguably more so than other visual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 picture might equal 1000 words, but words can quickly contextualize and represent pictures in various way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rds as sound effects – representation of aural channel in literal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ord/image interpla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Word specific 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mage specific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uo specific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Additive/intersecting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nterdependen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rallel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ontag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90800" y="2133720"/>
            <a:ext cx="5067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ext week: cancell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ptional in-class assignment: participate in election day (how to do it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assignment due Oct 13 now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92" name="Picture 3" descr="DSC_0051.JPG"/>
          <p:cNvPicPr/>
          <p:nvPr/>
        </p:nvPicPr>
        <p:blipFill>
          <a:blip r:embed="rId1"/>
          <a:stretch/>
        </p:blipFill>
        <p:spPr>
          <a:xfrm>
            <a:off x="415800" y="2031840"/>
            <a:ext cx="29386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low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omics as sequential art - sequence of images becomes important in representation of time (e.g., photo of family gathering and reaction example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oment, frame, image, word choice work together to create (or sabotage) flow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How much of flow to show?  Example of multi-panel comics on drunk driving - different stories are told, even with same beginning/ending point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low concer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ultural norms (e.g., North American/European - left to right – manga flows differ, require instructions for non-regular readers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ce of transitions - Japanese comics and graphic novels spend more time for fuller exposition and slower moment change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Breaking norms (experimental comics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xtent to which creator guides flow - hot vs. cool again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 quick first note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Analysis done by application of all rules = rambling and superficial in 5-7 pag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Your job = critical analysis – what’s important and why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Consider your comic as a designed text – everything is likely there for a reason. 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Your own perspective is acceptable – but not opinion as much as reasoned argumen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Outside research not explicitly necessary – but does it ever really hurt?  (e.g., guessing what an author might intend by choice of style is one thing – quoting her/him is another!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" descr="mccloud-uc-triangle.jpg"/>
          <p:cNvPicPr/>
          <p:nvPr/>
        </p:nvPicPr>
        <p:blipFill>
          <a:blip r:embed="rId1"/>
          <a:stretch/>
        </p:blipFill>
        <p:spPr>
          <a:xfrm>
            <a:off x="88920" y="0"/>
            <a:ext cx="89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Sequential 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Historical emergence as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astard chil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of words and picture dual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icture plane – representations of iconography, text and realism a nice breakdown of potential options with a good selection of cases – but why is the question to ask there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3" descr="1628399-mccloud_understanding_comics_super.jpeg"/>
          <p:cNvPicPr/>
          <p:nvPr/>
        </p:nvPicPr>
        <p:blipFill>
          <a:blip r:embed="rId1"/>
          <a:stretch/>
        </p:blipFill>
        <p:spPr>
          <a:xfrm>
            <a:off x="743040" y="1468440"/>
            <a:ext cx="76197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Art Form (Six Steps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Idea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Form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Idiom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tructur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Craft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urfac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Consider your analysis in same way – surface analysis = surface comics.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Representation in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ra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ma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low (McClou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2006 work, Making Comic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o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438000" y="2133720"/>
            <a:ext cx="5419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ust represent transition among time visually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ust guide the reader’s sense of closure (i.e., leave the reader to fill in the gaps of the sto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aturation vs. interpretation similar to hot vs. cool media - comics generally as cool mediu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05" name="Picture 1" descr="tumblr_l2q8e3rNdS1qban49.jpeg"/>
          <p:cNvPicPr/>
          <p:nvPr/>
        </p:nvPicPr>
        <p:blipFill>
          <a:blip r:embed="rId1"/>
          <a:stretch/>
        </p:blipFill>
        <p:spPr>
          <a:xfrm>
            <a:off x="382680" y="1832040"/>
            <a:ext cx="305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09-29T19:09:13Z</dcterms:modified>
  <cp:revision>28</cp:revision>
  <dc:subject/>
  <dc:title>CCT 300: Critical Analysis  of Media</dc:title>
</cp:coreProperties>
</file>